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56B-224C-4783-A068-9156B124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513-2082-4A55-B8FF-95080D88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F4D-03B6-4C03-850A-01705075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1D3-0857-4E50-A4D9-0987167A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4F9F-9633-4C53-9E7E-8D7690C1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7F4E-D7E9-4835-80AC-2C8AE1E2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2268-8116-489C-ACE4-EF897AB4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96B7-9A4C-4C9A-ADB6-C3C36676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8E24-2E7E-42F2-BED1-671B299B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377F-0C76-464E-80B7-9AB255EF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6644-28AC-43EB-86F9-7DF2DFF8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EF1-CB29-4987-8C89-E860351B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4519-8EB5-4FF8-AA52-0DFC1FE8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DCB1-4C76-42AF-AE12-40C5B840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2D93-1F29-483E-8B05-7FB7CCB3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A779-17D6-440A-B8C9-DFAED089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42ED-39E1-4D2F-87CA-2C795768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573-33B0-4A19-900C-31AA29F5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262-8D32-4975-A47A-AD933284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2C99-9744-400B-A1B6-CBC4BC0B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89E-A63E-46C5-80D6-55247507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B510-82CF-451D-8061-9446CE18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5CA-BE9A-4BDF-9D3C-F3635A15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582-A9D1-43A8-9AA0-099D8D93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67F2-E25A-43FD-A8FE-E9A61691E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9D86-B9CE-4A8E-B11D-2297BD1B2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916280"/>
            <a:ext cx="7848720" cy="22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 Black"/>
                <a:ea typeface="方正大黑简体"/>
              </a:rPr>
              <a:t>实施绿色防控　建设有机品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84000" y="3789000"/>
            <a:ext cx="4854600" cy="19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湖南卫红米业有限公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宁乡县植保植检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DSC02482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59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3492360" y="4941720"/>
            <a:ext cx="51832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机插秧育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560" y="90792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适时移栽，合理密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秧苗长至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5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叶至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叶时，秧龄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，一般在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左右开始移栽，机插秧密度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0×11.8cm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每亩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84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丛，每亩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左右基本苗，软盘抛秧每亩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5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9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片，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丛左右，每亩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基本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卫红米业画册0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465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2195640" y="5373720"/>
            <a:ext cx="45370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方正黑体简体"/>
              </a:rPr>
              <a:t>高速插秧机插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合理施肥，重施追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份，结合土地翻耕，施用浩博生物有机肥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20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斤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。在水稻生长期施用浩博有机肥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斤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；在肥料不足的前提下，看苗酌量施用认证许可的有机叶面肥和有机菌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560" y="1125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科学管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水控苗，以水控草，浅水返青，有水分蘖，够苗晒田，后期干干湿湿，通过科学有效的水浆管理，促进水稻前期早生快发，早封行，以达到以水促苗，以苗压草，以水调肥，以水调气的目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"/>
                <a:ea typeface="方正黑体简体"/>
              </a:rPr>
              <a:t>“</a:t>
            </a:r>
            <a:r>
              <a:rPr b="0" lang="zh-CN" sz="4400" spc="-1" strike="noStrike">
                <a:solidFill>
                  <a:srgbClr val="ffffb7"/>
                </a:solidFill>
                <a:latin typeface="Arial Black"/>
                <a:ea typeface="方正黑体简体"/>
              </a:rPr>
              <a:t>绿色防控</a:t>
            </a:r>
            <a:r>
              <a:rPr b="0" lang="zh-CN" sz="4400" spc="-1" strike="noStrike">
                <a:solidFill>
                  <a:srgbClr val="ffffb7"/>
                </a:solidFill>
                <a:latin typeface="Arial"/>
                <a:ea typeface="方正黑体简体"/>
              </a:rPr>
              <a:t>”</a:t>
            </a:r>
            <a:r>
              <a:rPr b="0" lang="zh-CN" sz="4400" spc="-1" strike="noStrike">
                <a:solidFill>
                  <a:srgbClr val="ffffb7"/>
                </a:solidFill>
                <a:latin typeface="Arial Black"/>
                <a:ea typeface="方正黑体简体"/>
              </a:rPr>
              <a:t>生物灾害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机稻生产过程控制非常严格，病虫草等有害生物不能采取化学农药进行防治，因此必须优化组合各种农业、物理、生物等综合防治措施，把其为害损失控制在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%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下，达到有机、绿色、环保的目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农业防治</a:t>
            </a:r>
            <a:r>
              <a:rPr b="1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身栽培，合理水肥管理，创造有利于水稻生长而不利于病虫滋生的环境条件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打捞浪渣：在土地翻耕平整后灌深水，然后打捞田边田角的浪渣，集中深埋或烧毁，对于纹枯病、小球菌核病、稻曲病的防治是重要一环，可以收到事半功倍的效果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除杀杂草：在水稻移栽前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，田间灌跑马水使之湿润以诱发杂草的萌发，并通过数次翻耕来压低杂草基数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苗压草：通过合理密植适当增加基本苗来挤占杂草生长空间，抑制杂草生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物理防治</a:t>
            </a:r>
            <a:r>
              <a:rPr b="1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安装太阳能杀虫灯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盏，控制面积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0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，诱杀田间趋光害虫，开灯时间从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起，及时清除死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性诱剂诱杀技术：利用人工合成的二化螟性信息素来诱杀雄虫，减少雄虫数量和交配次数，从而达到压低后代种群数量的目的。在示范区安装宁波纽康二化螟诱芯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0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枚，配套水盆诱捕器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0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，示范面积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0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，在二代二化螟盛孵高峰前安装到位（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4" descr="DSC02540"/>
          <p:cNvPicPr/>
          <p:nvPr/>
        </p:nvPicPr>
        <p:blipFill>
          <a:blip r:embed="rId1"/>
          <a:stretch/>
        </p:blipFill>
        <p:spPr>
          <a:xfrm>
            <a:off x="0" y="0"/>
            <a:ext cx="6335640" cy="3562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照片 5394"/>
          <p:cNvPicPr/>
          <p:nvPr/>
        </p:nvPicPr>
        <p:blipFill>
          <a:blip r:embed="rId2"/>
          <a:stretch/>
        </p:blipFill>
        <p:spPr>
          <a:xfrm>
            <a:off x="3238560" y="2708280"/>
            <a:ext cx="5905440" cy="3943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468360" y="4941720"/>
            <a:ext cx="273528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太阳能杀虫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516720" y="1268280"/>
            <a:ext cx="237636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田埂种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824360" cy="3616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照片 139"/>
          <p:cNvPicPr/>
          <p:nvPr/>
        </p:nvPicPr>
        <p:blipFill>
          <a:blip r:embed="rId2"/>
          <a:stretch/>
        </p:blipFill>
        <p:spPr>
          <a:xfrm>
            <a:off x="3708360" y="2949480"/>
            <a:ext cx="5184720" cy="34624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5508720" y="907920"/>
            <a:ext cx="338436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诱钵和诱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前 言</a:t>
            </a:r>
            <a:r>
              <a:rPr b="0" lang="en-US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(</a:t>
            </a: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一</a:t>
            </a:r>
            <a:r>
              <a:rPr b="0" lang="en-US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随着社会生活水平的提高，人们消费观念已不再满足于吃得饱、吃得好，而是更加关注吃得放心、吃得健康。绿色稻米、有机稻米的出现正满足了人们对健康的需求。大力发展绿色农业、有机农业，已成为现代农业发展的新主题，也是现代农业的内在要求和必然选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方正隶书简体"/>
              </a:rPr>
              <a:t>绿 色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方正隶书简体"/>
              </a:rPr>
              <a:t>·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方正隶书简体"/>
              </a:rPr>
              <a:t>营 养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方正隶书简体"/>
              </a:rPr>
              <a:t>·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方正隶书简体"/>
              </a:rPr>
              <a:t>健 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生物防治</a:t>
            </a:r>
            <a:r>
              <a:rPr b="1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.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稻鸭共育：选择体型适中，活动能力较强的宁乡麻鸭（水鸭）与水稻栽培同步共育，每亩放养雏鸭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，在水稻返青立苗后（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）投放，每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隔离成一圈，控制鸭子群体数量，并搭建一间鸭舍，在水稻破口抽穗前收鸭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.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释放赤眼蜂：利用赤眼蜂寄生于纵卷叶螟卵内，从而达到防治的目的。示范面积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00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，重点防治第三代纵卷叶螟。在纵卷叶螟盛蛾高峰始盛期开始放蜂（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，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7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），共放蜂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次。每亩设置放蜂点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个，每点间距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米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. 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田埂种豆，改善生态环境：为水稻害虫的自然天敌提供栖息场所，发挥自然天敌（蜘蛛、寄生蜂、蛙类等）的控害作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Picture 4" descr="雏鸭照片 405"/>
          <p:cNvPicPr/>
          <p:nvPr/>
        </p:nvPicPr>
        <p:blipFill>
          <a:blip r:embed="rId1"/>
          <a:stretch/>
        </p:blipFill>
        <p:spPr>
          <a:xfrm>
            <a:off x="468360" y="260280"/>
            <a:ext cx="4895640" cy="3268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468360" y="5013360"/>
            <a:ext cx="338292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雏鸭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龄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1"/>
          <p:cNvPicPr/>
          <p:nvPr/>
        </p:nvPicPr>
        <p:blipFill>
          <a:blip r:embed="rId2"/>
          <a:stretch/>
        </p:blipFill>
        <p:spPr>
          <a:xfrm>
            <a:off x="4211640" y="2852640"/>
            <a:ext cx="468144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Picture 4" descr="照片 414"/>
          <p:cNvPicPr/>
          <p:nvPr/>
        </p:nvPicPr>
        <p:blipFill>
          <a:blip r:embed="rId1"/>
          <a:stretch/>
        </p:blipFill>
        <p:spPr>
          <a:xfrm>
            <a:off x="468360" y="260280"/>
            <a:ext cx="5364000" cy="3581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照片 5338"/>
          <p:cNvPicPr/>
          <p:nvPr/>
        </p:nvPicPr>
        <p:blipFill>
          <a:blip r:embed="rId2"/>
          <a:stretch/>
        </p:blipFill>
        <p:spPr>
          <a:xfrm>
            <a:off x="2771640" y="3284640"/>
            <a:ext cx="5904000" cy="3573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5940360" y="620640"/>
            <a:ext cx="295272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鸭舍和围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50920" y="5084640"/>
            <a:ext cx="237636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成        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DSC02532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545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5508720" y="5013360"/>
            <a:ext cx="316692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释放赤眼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4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 </a:t>
            </a:r>
            <a:r>
              <a:rPr b="1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成 本 及 效 益 分 析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32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承租户成本核算</a:t>
            </a:r>
            <a:r>
              <a:rPr b="0" lang="en-US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单位：元</a:t>
            </a:r>
            <a:r>
              <a:rPr b="0" lang="en-US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亩</a:t>
            </a:r>
            <a:r>
              <a:rPr b="0" lang="en-US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16000" y="3357720"/>
          <a:ext cx="7128000" cy="2232000"/>
        </p:xfrm>
        <a:graphic>
          <a:graphicData uri="http://schemas.openxmlformats.org/drawingml/2006/table">
            <a:tbl>
              <a:tblPr/>
              <a:tblGrid>
                <a:gridCol w="985680"/>
                <a:gridCol w="1049400"/>
                <a:gridCol w="1046160"/>
                <a:gridCol w="965160"/>
                <a:gridCol w="1001880"/>
                <a:gridCol w="966600"/>
                <a:gridCol w="111312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机耕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机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机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租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肥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烘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成 本 及 效 益 分 析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9632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公司成本核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单位：元</a:t>
            </a:r>
            <a:r>
              <a:rPr b="0" lang="en-US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5640" y="3263760"/>
          <a:ext cx="8208720" cy="2629080"/>
        </p:xfrm>
        <a:graphic>
          <a:graphicData uri="http://schemas.openxmlformats.org/drawingml/2006/table">
            <a:tbl>
              <a:tblPr/>
              <a:tblGrid>
                <a:gridCol w="1320840"/>
                <a:gridCol w="648360"/>
                <a:gridCol w="648360"/>
                <a:gridCol w="937080"/>
                <a:gridCol w="793800"/>
                <a:gridCol w="792000"/>
                <a:gridCol w="793800"/>
                <a:gridCol w="1472760"/>
                <a:gridCol w="801720"/>
              </a:tblGrid>
              <a:tr h="14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性诱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鸭苗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围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杀虫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赤眼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农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种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基础设施及其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方正黑体简体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  <a:ea typeface="方正黑体简体"/>
              </a:rPr>
              <a:t>成本及效益分析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96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2011</a:t>
            </a: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年有机稻收购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单位：元</a:t>
            </a:r>
            <a:r>
              <a:rPr b="0" lang="en-US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3860640"/>
          <a:ext cx="8291520" cy="2265480"/>
        </p:xfrm>
        <a:graphic>
          <a:graphicData uri="http://schemas.openxmlformats.org/drawingml/2006/table">
            <a:tbl>
              <a:tblPr/>
              <a:tblGrid>
                <a:gridCol w="2073240"/>
                <a:gridCol w="2073240"/>
                <a:gridCol w="2071800"/>
                <a:gridCol w="207324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品    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产    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单    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产    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玉针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5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3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18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农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7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2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18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成 本 及 效 益 分 析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每个承租户承包面积在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，如种植玉针香每亩收入约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84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，以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计，个人总收入为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920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；如种植农香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8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每亩收入约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06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，以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计，个人总收入为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0300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元（不包括养殖鸭子收入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2916360" y="5300640"/>
            <a:ext cx="381636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承包农户接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电台记者采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960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成 本 及 效 益 分 析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企业效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                           </a:t>
            </a:r>
            <a:r>
              <a:rPr b="0" lang="zh-CN" sz="20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单位：斤、元、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5280" y="2637000"/>
          <a:ext cx="8362800" cy="2998800"/>
        </p:xfrm>
        <a:graphic>
          <a:graphicData uri="http://schemas.openxmlformats.org/drawingml/2006/table">
            <a:tbl>
              <a:tblPr/>
              <a:tblGrid>
                <a:gridCol w="1295280"/>
                <a:gridCol w="936720"/>
                <a:gridCol w="1076400"/>
                <a:gridCol w="1262160"/>
                <a:gridCol w="1338120"/>
                <a:gridCol w="1260360"/>
                <a:gridCol w="119376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品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亩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产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单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生产加工费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投入生产成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亩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方正黑体简体"/>
                          <a:ea typeface="方正黑体简体"/>
                        </a:rPr>
                        <a:t>毛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玉针香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2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50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45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22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28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农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方正黑体简体"/>
                          <a:ea typeface="方正黑体简体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28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56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56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21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3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前 言</a:t>
            </a:r>
            <a:r>
              <a:rPr b="0" lang="en-US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(</a:t>
            </a: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二</a:t>
            </a:r>
            <a:r>
              <a:rPr b="0" lang="en-US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方正黑体简体"/>
                <a:ea typeface="方正黑体简体"/>
              </a:rPr>
              <a:t>      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宁乡为全国粮食生产先进县，粮食播种面积常年稳定在</a:t>
            </a:r>
            <a:r>
              <a:rPr b="0" lang="en-US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亩左右，粮食生产是宁乡农业的重中之重，</a:t>
            </a:r>
            <a:r>
              <a:rPr b="0" lang="en-US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08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县委县政府提出建设食品安全示范县，推进水稻标准化生产是确保大米质量安全、提高产品市场竞争力的重要举措。湖南卫红米业有限公司通过土地流转，由公司直接经营，建立绿色标准化生产基地；</a:t>
            </a:r>
            <a:r>
              <a:rPr b="0" lang="en-US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09</a:t>
            </a:r>
            <a:r>
              <a:rPr b="0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及今年我公司生产基地列入全市农业标准化生产示范基地之一，得到各级领导的充分肯定，农业部高鸿宾副部长亲临基地视察并给予高度评价，副省长徐明华、省农业厅田家贵厅长视察后作为典范推介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7865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0"/>
          <p:cNvSpPr/>
          <p:nvPr/>
        </p:nvSpPr>
        <p:spPr>
          <a:xfrm>
            <a:off x="468360" y="189000"/>
            <a:ext cx="464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Arial"/>
                <a:ea typeface="方正黑体简体"/>
              </a:rPr>
              <a:t>公司产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267516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综合分析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“绿色防控”与基地相结合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---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品牌，经济效益显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企业创品牌，自身投入，强化管理，解决了“绿色防控”的投入、管理机制问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真正实现了农民、企业、植保技术推广“三赢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综合分析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生态效益、社会效益显著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“振兴湘米”，需要有机品牌，创造有机品牌，需要政府及政府部门加大对基地建设的投入。包括政策和资金投入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有机品牌的创建，特别是品牌营销、品牌推广，还要求我们加大投入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是品牌形象的宣传提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是设置专卖店建立销售网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 Black"/>
                <a:ea typeface="方正黑体简体"/>
              </a:rPr>
              <a:t>卫红人使命：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32000" y="2852640"/>
            <a:ext cx="7200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实现绿色农业产业化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16000" y="1197000"/>
            <a:ext cx="6624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衷心感谢以下单位的大力支持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湖南省植保植检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湖南省农科院水稻研究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国家杂交水稻研究中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华南农业大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长沙市农业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宁乡县农业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04"/>
          <p:cNvPicPr/>
          <p:nvPr/>
        </p:nvPicPr>
        <p:blipFill>
          <a:blip r:embed="rId1"/>
          <a:stretch/>
        </p:blipFill>
        <p:spPr>
          <a:xfrm>
            <a:off x="250920" y="2421000"/>
            <a:ext cx="4176720" cy="308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03"/>
          <p:cNvPicPr/>
          <p:nvPr/>
        </p:nvPicPr>
        <p:blipFill>
          <a:blip r:embed="rId2"/>
          <a:stretch/>
        </p:blipFill>
        <p:spPr>
          <a:xfrm>
            <a:off x="4716360" y="404640"/>
            <a:ext cx="3961080" cy="2867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787640" y="3357720"/>
            <a:ext cx="392724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农业部高鸿宾副部长和徐明华副省长视察基地，与农户亲切交谈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3640" y="5592240"/>
            <a:ext cx="4103640" cy="6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湖南省农业厅田家贵厅长视察公司基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  <a:ea typeface="方正黑体简体"/>
              </a:rPr>
              <a:t>公司简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4544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湖南卫红米业有限公司是一家集粮食种植、收购、储备、加工、销售、于一体的有限责任公司，系湖南省农业产业化龙头企业，总资产</a:t>
            </a: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2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亿元，仓容量</a:t>
            </a: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吨，年大米加工能力</a:t>
            </a: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吨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司通过</a:t>
            </a: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SO9001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质量体系认证，荣获“中国粮食行业放心粮油示范企业”、“质量信誉</a:t>
            </a:r>
            <a:r>
              <a:rPr b="0" lang="en-US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AA</a:t>
            </a:r>
            <a:r>
              <a:rPr b="0" lang="zh-CN" sz="2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单位”、“质量兴湘万里行魅力企业 ”、“国家粮食安全应急预案实施单位”、“中国百佳粮食企业”等称号。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4170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  <a:ea typeface="方正黑体简体"/>
              </a:rPr>
              <a:t>基地简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56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司于 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7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率先实行土地流转，建设绿色优质稻标准化生产示范基地。基地注重农业高新技术投入，科学管理，实行轻简高效栽培，测土配方施肥，病虫害生态综合防治等现代农业生产技术，历年来在各级各部门的关心支持下，依托省农业厅、华南农业大学、湖南农业大学、省农科院的生产技术指导，实现了从机耕到机播到机插、植保机防、机收一条龙的全程机械标准化生产。通过实行“四统一”方针（统一投入、统一品种、统一机耕植保、统一收购），自身流转，发展合作社流转，建设基地面积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2.8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万亩，受到各级领导的充分肯定和一致好评。基地先后荣获“农业产业化优秀基地”、“标准化生产示范基地”、“水稻全程机械化生产示范基地”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优秀基地"/>
          <p:cNvPicPr/>
          <p:nvPr/>
        </p:nvPicPr>
        <p:blipFill>
          <a:blip r:embed="rId1"/>
          <a:stretch/>
        </p:blipFill>
        <p:spPr>
          <a:xfrm>
            <a:off x="6300720" y="333360"/>
            <a:ext cx="223056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3789000"/>
            <a:ext cx="8305920" cy="23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选址条件：土地平整，有完整独立的排灌体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种植模式：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经营模式：大流转，小承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管理模式：四统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9" descr="2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Arial Black"/>
                <a:ea typeface="方正黑体简体"/>
              </a:rPr>
              <a:t>基地环境要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基地环境条件符合下列要求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. GB5084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农田灌溉水质标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. GB15618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土壤环境质量标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. GB3095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空气质量标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立隔离带：在有机稻种植区与常规农田之间设有隔离带，距离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米，隔离带种植水稻，其生产方式按照有机稻的生产技术规程进行，但收获后的产品只能按照常规产品出售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生产技术规程及重要技术措施</a:t>
            </a:r>
            <a:r>
              <a:rPr b="1" lang="zh-CN" sz="4400" spc="-1" strike="noStrike">
                <a:solidFill>
                  <a:srgbClr val="ffffb7"/>
                </a:solidFill>
                <a:latin typeface="方正黑体简体"/>
                <a:ea typeface="方正黑体简体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 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培育壮秧：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品种选择：选择农艺性状好，综合抗性强，适宜本地种植，米质优良的品种。今年种植玉针香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00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、农香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8 500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种子处理：播种前晒种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，用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%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石灰水浸种，预防稻瘟病、恶苗病、稻曲病等病害的发生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适时播种：示范区有机稻选择在一季晚稻种植，采用机插秧或抛秧，秧龄控制在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5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中小苗育秧方式：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日下泥，每亩用种量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5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斤，每亩准备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08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孔软盘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0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片，或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8×58cm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插秧专用秧盘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6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～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8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片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施足有机肥：苗床结合整地，施用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9%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浩博生物有机肥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公斤</a:t>
            </a:r>
            <a:r>
              <a:rPr b="0" lang="en-US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/</a:t>
            </a:r>
            <a:r>
              <a:rPr b="0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亩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01:14:46Z</dcterms:created>
  <dc:creator>User</dc:creator>
  <dc:description/>
  <dc:language>en-US</dc:language>
  <cp:lastModifiedBy>微软用户</cp:lastModifiedBy>
  <dcterms:modified xsi:type="dcterms:W3CDTF">2012-11-16T03:27:49Z</dcterms:modified>
  <cp:revision>51</cp:revision>
  <dc:subject/>
  <dc:title>“绿色防控”助推有机品牌建设</dc:title>
</cp:coreProperties>
</file>